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D65-01F5-413D-8B0F-D3248B36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178-4F76-4C2C-8263-A4E57839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F80-923D-4BE8-97AD-71B9B63C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5A9-354E-4EC5-9514-1C1AE256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3F0D-EB1B-4C37-838C-D0BBD9CA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ACA-BC5E-4727-942A-2E02542E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84C-805B-4D63-8906-A6739337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CCD-1026-4823-B6AA-F60BC56F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D3A-59F1-4C23-BBC3-CE4AA1F7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B73-1DDF-43BF-9ACE-FC3B2855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968-987B-4889-B84F-27AFEA8C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CE7-6FCA-41AF-B668-794C93CA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6737-6985-4025-8227-F5338B879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file:///tmp/home/.config/libreoffice/4/user/gallery/j0214098.wav" TargetMode="External"/><Relationship Id="rId4" Type="http://schemas.microsoft.com/office/2007/relationships/media" Target="file:///tmp/home/.config/libreoffice/4/user/gallery/j0214098.wav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325440"/>
            <a:ext cx="7543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80960"/>
            <a:ext cx="91440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01920" y="0"/>
            <a:ext cx="614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vember 12, 19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Pages 1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522000">
            <a:off x="4266720" y="11430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963600">
            <a:off x="761760" y="2438280"/>
            <a:ext cx="1743120" cy="2256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66880" y="32767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questions 1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543800" y="5257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800100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696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934320" y="5562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8077320" y="5410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6553080" y="491508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57913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ww.readpages1-10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799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542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08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08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474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9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053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27574" b="0"/>
          <a:stretch/>
        </p:blipFill>
        <p:spPr>
          <a:xfrm>
            <a:off x="1371600" y="0"/>
            <a:ext cx="66168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6629400" cy="6215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35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09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545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2976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3:41:43Z</dcterms:created>
  <dc:creator>Checkout</dc:creator>
  <dc:description/>
  <dc:language>en-US</dc:language>
  <cp:lastModifiedBy>VoelkerC</cp:lastModifiedBy>
  <dcterms:modified xsi:type="dcterms:W3CDTF">2009-11-11T14:37:24Z</dcterms:modified>
  <cp:revision>7</cp:revision>
  <dc:subject/>
  <dc:title>Slide 1</dc:title>
</cp:coreProperties>
</file>